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B03F-CFD2-4971-A7CF-7F0818FEB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lso remove the tarnish by multiplying both sides of the equation by the reciprocal of the number that is the “tarnish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is slide, putting an explanation below each equation of how you would use the mud and tarnish to solve the equation, such a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add 5 to both sides of the equation, and then divide both sides of the equation by 4…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C477C-AF5E-42EE-9D7A-7CE334936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9053A-B91F-4691-833C-A5C297BD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77EC7-923D-4D61-A785-C6261382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7360E-7A8F-4B16-B9DE-6F7A93692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3B8E-30EA-480F-B17C-F39CB9ED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A1FA-698F-4925-BC62-6E18A8C7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1628-6890-43FB-90F3-8CE1DF42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1E7E-75D4-4886-B708-55538D6C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B915-FAD8-4001-B990-9F42EEE8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B96E-43DC-4607-838F-F855EB06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2493-2EAB-4B03-961E-041DEEE1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D4226-3ED9-43B6-B349-96518D4D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B82F-2333-47C2-9B5C-562323BD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9CC6-7EEB-4DFD-BC70-E30CD5BF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E4C8-AEB2-4E6B-A075-F6B2BD7E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4942-5A0E-4269-810A-4A31752F7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FAF8-B9C5-40E5-BE5B-A28F406A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C93E6-C5EC-4E81-BEC2-8C5096F7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70E25-2E50-4E12-BC06-BB8513C4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C3900-A366-4FE8-A348-037460FD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2AB5C-95C1-4246-BA55-9716D0C5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80B22-B2DB-4E26-B691-293315A9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89649-144A-46D1-8635-8E12A4AD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74B76-68D5-4C0A-80AC-E7DC41F9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2BC5-BB6D-461E-A248-99B4BAEB21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C9E2-2051-4A1C-8089-E0F9B7CE4B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single variable equations can seem tricky, at first, so begin by asking yourself several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I solve the equation 3x + 5 = 14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f I broke the problem down into step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I do for the first ste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I do for the second ste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I know what part of the equation to use for each ste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TEP 1: Identify the MUD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solidFill>
            <a:srgbClr val="000099"/>
          </a:solidFill>
          <a:ln w="93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MUD is the number that is on the same side of the equation as the variable you are solving f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MUD is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dde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ubtracte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to that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o remove the MUD, perform the inverse operation to the equation on both sides, using that same nu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x + 4 = 6    Four is added to 2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Subtract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4 from both sides of the equ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x - 3  = 4.  Three is subtracted from 7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Add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3 to both sides of the equ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tep 2: Identify the TARNIS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343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ARNISH is the number tha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ultipli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vid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variable that you are solving for (such as 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remove the TARNISH, perform  the inverse operation to the equation on both sides, using that same nu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2x = 4       Two is multiplied times 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v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oth sides of the equation by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x/3 = 6       x is divided by th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ultip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oth sides of the equation by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identify the MUD (Step 1)and TARNISH (Step 2) in these equ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x + 2 = 12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ud: + 2    Tarnish:  x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x = 24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ud: 0       Tarnish:  x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x – 4 = 4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ud: -4      Tarnish:  x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/3 – 8 = 1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ud: -8      Tarnish: Divide by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936960" y="24764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6960" y="24764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ow that you can identify the MUD 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nd TARNISH, explain how to use this information to solve the following equati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x + 2 = 12  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ud: + 2    Tarnish:  x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Subtract 2 from both sides, and then divide both sides by 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x – 4 = 4  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ud: -4      Tarnish:  x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Add 4 to both sides, and then divide both sides by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How would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you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finish this probl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/3 – 8 = 13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ud: -8      Tarnish: Divide by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936960" y="247644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36960" y="24764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You can use the “mud/tarnish” strategy to solve many types of algebra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79916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with one variable like the ones you’ve just se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with more than one vari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 the other variables as if they were just numb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d and tarnish”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with fractions, square roots, even complex numb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ypes of numbers and variabl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“mud and tarnish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15200" cy="763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is is another way to look at solving linear equations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14400" y="743040"/>
            <a:ext cx="7467480" cy="6086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MEMBER, when you are solving equations using the mud/tarnish metho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4343400" cy="441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t of the equation  remaining after you clean off the mud and tarn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ariab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at you are solving fo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at it repres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variable is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ing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819760" y="3360600"/>
            <a:ext cx="3071880" cy="2041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nformal Roman"/>
              </a:rPr>
              <a:t>    </a:t>
            </a:r>
            <a:r>
              <a:rPr b="0" lang="en-US" sz="7200" spc="-1" strike="noStrike">
                <a:solidFill>
                  <a:srgbClr val="000000"/>
                </a:solidFill>
                <a:latin typeface="Informal Roman"/>
              </a:rPr>
              <a:t>THE    END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476520" y="3114720"/>
            <a:ext cx="2806920" cy="2074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4724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, to solve a problem, it helps to relate it to something that is entirely differ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ul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ssib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relat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 + 5 = 14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believe: Cleaning the muddy, tarnished rings of ancient Roman sold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we start to solve our algebra problem, we need to learn a little about these Romans and their ring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0 years ago, Roman soldiers fought  battles against fierce tribes in what is now Euro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soldiers buried their rings and other jewelry before battle to protect their valuab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 the soldiers died in battl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, the soldiers survived the battle, but just couldn’t remember where they had buried their jewelry.  (They must have dug a lot of holes trying to find it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today, people with metal detectors in England, Germany, and even in Eastern Europe find this jewelry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095800" y="2709720"/>
            <a:ext cx="3976920" cy="307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times…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ey find Roman rings in the mu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these rings are clea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these rings are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mudd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these rings are </a:t>
            </a: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tarnish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usually, these rings are 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tarnish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ud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3638520" cy="2411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23880" y="421956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pretend YOU found a Roman ring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and it was muddy AND tarnished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How woul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lean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00400" y="2590920"/>
            <a:ext cx="4573440" cy="3379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on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ve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utsi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ring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u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or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arnis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mu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on the outside of the r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t is what you would clean off fir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as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clean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tarni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harder to clean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ould clean it of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u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let’s compare the mud and tarnish to parts of our equat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3 x + 5 = 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MUD in this equ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:  5 is the mud.  It is the easiest part of the equation to “clean up”, as it is only added to the 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get rid of the mu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: We “wash off” the mud, 5,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btrac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both sides of the equa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subtracting 5 is the inverse of adding 5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                              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x + 5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= 14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3x =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the mud is gone, what is the                        TARNISH in the equation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3x = 9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ARNISH is the number 3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“attached” to x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ltipl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“remove the tarnish”, you mu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v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oth sides of the equation by 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v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3  because division is the inverse operation of multi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3x / 3 = 9 /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,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81080"/>
            <a:ext cx="7924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What are the steps in solving an linear equation with one variable using the mud/tarnish strateg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03:13:47Z</dcterms:created>
  <dc:creator>Rhonda Renker</dc:creator>
  <dc:description/>
  <dc:language>en-US</dc:language>
  <cp:lastModifiedBy>Rhonda Renker</cp:lastModifiedBy>
  <dcterms:modified xsi:type="dcterms:W3CDTF">2008-07-05T04:05:00Z</dcterms:modified>
  <cp:revision>41</cp:revision>
  <dc:subject/>
  <dc:title>Solving Single Variable Equations</dc:title>
</cp:coreProperties>
</file>